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F4F2-87AB-4BD3-A9C8-949FB5BE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72AB-8E75-4E31-826C-C065B144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3B18-4827-4C3D-B093-03B54BFC0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36A5-2A9E-49F7-84B7-0886D92C2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A3C6-F4C2-45F5-B291-09A7FEAB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FFCF-891E-4B94-BB35-0638A3C1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5A7A-363D-4C23-854D-EC9EA21B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2EA1-B58B-45AB-8F2E-C3F73368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0C53-CC7F-4CA7-AEA4-65E0BFFD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EA9B-DA65-4D60-80F8-02617E20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AC23-1320-4206-B4BF-E5AB7F0E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2386-C4EA-4EEC-B38B-63B10C79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A35C-9F48-465D-97FF-1DA9CE09B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981080"/>
            <a:ext cx="7772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Kristen ITC"/>
              </a:rPr>
              <a:t>A Slideshow of the          Trans-Siberian Railw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477120" y="4191120"/>
          <a:ext cx="304560" cy="30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4191120"/>
                    <a:ext cx="30456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Our 1</a:t>
            </a:r>
            <a:r>
              <a:rPr b="0" lang="en-US" sz="4400" spc="-1" strike="noStrike" baseline="30000">
                <a:solidFill>
                  <a:srgbClr val="ffffff"/>
                </a:solidFill>
                <a:latin typeface="Kristen ITC"/>
              </a:rPr>
              <a:t>st</a:t>
            </a: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Yaroslav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352680" y="13716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429000"/>
            <a:ext cx="2890800" cy="3124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324480" y="3352680"/>
            <a:ext cx="2467080" cy="312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6095880" y="3200400"/>
          <a:ext cx="304920" cy="30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5880" y="320040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Inside the T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    </a:t>
            </a: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This train has 2nd class 4-bed compartments and a restaurant car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362320" y="3498840"/>
            <a:ext cx="4572000" cy="311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8839080" y="655308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9080" y="65530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98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Juice ITC"/>
              </a:rPr>
              <a:t>Volga Riv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Juice ITC"/>
              </a:rPr>
              <a:t>The train passes over the Volga river on this bridg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57400" y="2971800"/>
            <a:ext cx="5029200" cy="3379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8610480" y="632448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610480" y="63244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Passing by the Ural Mounta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3733560" cy="2632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19720" y="1523880"/>
            <a:ext cx="4267080" cy="2722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295280" y="53341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We were passing Yekaterinburg on our w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8839080" y="6553080"/>
          <a:ext cx="30492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839080" y="65530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50000">
              <a:srgbClr val="f8b049"/>
            </a:gs>
            <a:gs pos="100000">
              <a:srgbClr val="fc9f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Novosibir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4343400" cy="2895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5800" y="556272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oper Black"/>
              </a:rPr>
              <a:t>The average temperature for Novosibirsk is 14F high and 6F low in the fall, so we stayed on the train and passed by downtown Novosibir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334120" y="1828800"/>
            <a:ext cx="3392280" cy="340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8839080" y="6400800"/>
          <a:ext cx="30492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839080" y="640080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447920" y="1066680"/>
            <a:ext cx="601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Cooper Black"/>
              </a:rPr>
              <a:t>This is the route we took from Moscow to Vladivost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15:51:39Z</dcterms:created>
  <dc:creator>hannahbyers</dc:creator>
  <dc:description/>
  <dc:language>en-US</dc:language>
  <cp:lastModifiedBy>hannahbyers</cp:lastModifiedBy>
  <dcterms:modified xsi:type="dcterms:W3CDTF">2008-11-25T15:56:01Z</dcterms:modified>
  <cp:revision>5</cp:revision>
  <dc:subject/>
  <dc:title>Slide 1</dc:title>
</cp:coreProperties>
</file>